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D1A-5A84-4761-99E2-BE92AE08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F03-9FB0-4F3D-B824-D967231B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E19-F9A0-4FD4-8716-D06F698C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CBD-C77A-4D7F-B629-E3A6CD30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8FC3-8C50-4B18-8342-8572032F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EFDB-8E75-4C0F-BD33-240EEDF2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622-786C-4D09-A982-45CF3C6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1B46-F253-4EB3-B520-95415B7D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597-8F88-468D-A15E-074A8D5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B4D4-6F6C-404F-8253-32EE286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4F4-B277-430D-B558-BDDD949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F57-E7E1-494D-9562-6C595E5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8560-BE16-46D7-BC44-5644302D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694-8ACA-4AF4-B589-951DF3C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2E6-9659-4B37-87B2-0E9653C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41B8-B2E2-455F-8C15-94263324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735D-D78C-45E9-A8FC-370446DF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CDC-42F3-4E38-9BF0-ED5E841B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F1C-4A7B-4783-90A1-9061F16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63B-FF2F-4BD0-8329-C255E06D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40A-43E1-49D2-A0A7-C4DB5C4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0B0-841B-49AD-98F8-814E226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6D8-33B5-482C-A211-439999B7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F11-7835-40A9-B70A-51926BD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C5A-FF17-4E45-9287-09D4E78407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C57-4CC1-490E-80FF-346459BA52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-25.05.2011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330066"/>
                </a:solidFill>
                <a:latin typeface="Times New Roman"/>
              </a:rPr>
              <a:t>24-25.05.2011 г.                    г. Сочи ст. ФГУП «ЮГ СПОРТ»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0040" y="1857240"/>
          <a:ext cx="8186760" cy="3637080"/>
        </p:xfrm>
        <a:graphic>
          <a:graphicData uri="http://schemas.openxmlformats.org/drawingml/2006/table">
            <a:tbl>
              <a:tblPr/>
              <a:tblGrid>
                <a:gridCol w="2776680"/>
                <a:gridCol w="2324160"/>
                <a:gridCol w="657000"/>
                <a:gridCol w="2428920"/>
              </a:tblGrid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й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дже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алья Шу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джер по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 Хав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 Калю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Admin</cp:lastModifiedBy>
  <dcterms:modified xsi:type="dcterms:W3CDTF">2011-05-25T06:08:40Z</dcterms:modified>
  <cp:revision>17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